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77D4-2AFA-40E1-939D-F1E6A9501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72F7-A40D-4684-9D6E-0C767DAB2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B67-F217-4B46-AA9C-12E3A777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C4D0-E467-43A1-8585-05C1C8A0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56D0-5F36-4180-B795-1E329CA9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C560-203E-4320-B0D2-4EFA220B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2F8-50EA-46A3-85C2-979E5DB1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BCD-551A-43FF-97E5-727FE9E5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766D-D8AF-4623-974D-AACF8F33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374-9E69-45CC-9760-E4D0CF9A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52F5-D796-4BAA-A41F-0417F014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B99-1740-4D6D-AB79-78C18B03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5D3B-593D-468E-AE6E-5BF49847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E661-60F1-46A4-9A12-020C11C1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8D29-B37E-4CEC-836E-7495BEDE3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УНИВЕРЗИТЕТ У КРАГУЈЕВЦУ</a:t>
            </a:r>
            <a:br>
              <a:rPr sz="1200"/>
            </a:b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ФАКУЛТЕТ МЕДИЦИНСКИХ НА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Subtitle 2" descr=""/>
          <p:cNvPicPr/>
          <p:nvPr/>
        </p:nvPicPr>
        <p:blipFill>
          <a:blip r:embed="rId1"/>
          <a:stretch/>
        </p:blipFill>
        <p:spPr>
          <a:xfrm>
            <a:off x="536400" y="2523960"/>
            <a:ext cx="7858440" cy="2035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2648160" y="4869000"/>
            <a:ext cx="414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Проф. др Владимир Јаковљеви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832840" y="2060640"/>
            <a:ext cx="333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ОКТОРСКЕ АКАДЕМСКЕ СТУД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2"/>
          <a:stretch/>
        </p:blipFill>
        <p:spPr>
          <a:xfrm>
            <a:off x="3673440" y="281160"/>
            <a:ext cx="1690560" cy="1228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Dfso"/>
          <p:cNvPicPr/>
          <p:nvPr/>
        </p:nvPicPr>
        <p:blipFill>
          <a:blip r:embed="rId3"/>
          <a:stretch/>
        </p:blipFill>
        <p:spPr>
          <a:xfrm>
            <a:off x="324000" y="404640"/>
            <a:ext cx="998280" cy="976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grb za gore desno obradjen"/>
          <p:cNvPicPr/>
          <p:nvPr/>
        </p:nvPicPr>
        <p:blipFill>
          <a:blip r:embed="rId4"/>
          <a:stretch/>
        </p:blipFill>
        <p:spPr>
          <a:xfrm>
            <a:off x="7596360" y="260280"/>
            <a:ext cx="10810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"/>
          <p:cNvSpPr/>
          <p:nvPr/>
        </p:nvSpPr>
        <p:spPr>
          <a:xfrm>
            <a:off x="2556000" y="5300640"/>
            <a:ext cx="457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едседник Друштва физиолога Срб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2050920" y="5589720"/>
            <a:ext cx="597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uncil Member International Atherosclerosis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ут кисеоника од алвеола до ће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177300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птимал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реднос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арцијалн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тис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дахнут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ћ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0,16-0,60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120 mmHg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460 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сп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120 mmHg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пас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хипокс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на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0,60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460 mmHg)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,0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1500 mmHg)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хиперокс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лвеолокапиларн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ембран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бављ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ифузиј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вис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радијен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тиса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рши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ифузио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ембра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100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Укупн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оличин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транспортуј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рвљу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раст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рачун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раствореног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пла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пилар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бављ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ифузиј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вис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радијен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тис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лазм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лог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анзицио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нтрол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личи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анспортован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емоглоби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ајње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трош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Интрацелуларни</a:t>
            </a:r>
            <a:r>
              <a:rPr b="1" lang="vi-VN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vi-VN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vi-VN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2133720"/>
            <a:ext cx="822960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итроцит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емоглобином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езервоар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vi-VN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г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пуњав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астворен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лазм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ходно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ефицијент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астворљив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лазм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ифузијом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слеђуј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пиларн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ид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нтерцелуларн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стор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акл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зим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ходно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војим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треб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радијент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тиск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пил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кретач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ифузиј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лекул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уж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ут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пилар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радијент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тисак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ифузион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истанц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ер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спешн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ксигенациј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к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птималн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кстрацелуларн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О</a:t>
            </a:r>
            <a:r>
              <a:rPr b="0" lang="vi-VN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mHg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5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нтрацелуларн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vi-VN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vi-VN" sz="1800" spc="-1" strike="noStrike">
                <a:solidFill>
                  <a:srgbClr val="000000"/>
                </a:solidFill>
                <a:latin typeface="Calibri"/>
              </a:rPr>
              <a:t>4.5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mHg</a:t>
            </a:r>
            <a:r>
              <a:rPr b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vi-VN" sz="1800" spc="-1" strike="noStrike">
                <a:solidFill>
                  <a:srgbClr val="000000"/>
                </a:solidFill>
                <a:latin typeface="Calibri"/>
              </a:rPr>
              <a:t> 8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mHg</a:t>
            </a:r>
            <a:r>
              <a:rPr b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Пад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i="1" lang="vi-VN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испод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1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mHg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доводи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прекида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оксидационих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процеса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митохондријама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смрти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прекида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продукције</a:t>
            </a:r>
            <a:r>
              <a:rPr b="0" i="1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ењање парцијалног РО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од алвеола до субцелуларног ниво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Резултат слика за transport kiseonika"/>
          <p:cNvPicPr/>
          <p:nvPr/>
        </p:nvPicPr>
        <p:blipFill>
          <a:blip r:embed="rId1"/>
          <a:srcRect l="0" t="17653" r="0" b="0"/>
          <a:stretch/>
        </p:blipFill>
        <p:spPr>
          <a:xfrm>
            <a:off x="468360" y="2349360"/>
            <a:ext cx="8136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Транспорт кисеоника кроз биолошке мембра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484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лазм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тмосферски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словим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ормокс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ас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граничен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личин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0,13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 mmol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купн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паците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лазм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аст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порционал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раст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дахнут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Остај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недовољно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разјашњен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механизам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транспорт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молекул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биолошк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мембран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цитосол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ћелијских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органел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мембран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ћелијских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органела (митохондриј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већан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ћелијск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трошњ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зрокуј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ано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лачењ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лазм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нд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зрокуј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ано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тпуштањ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емоглоб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личин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у ћелији ј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граничена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бјаснити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ифузиј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ретпоставк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RS" sz="1800" spc="-1" strike="noStrike">
                <a:solidFill>
                  <a:srgbClr val="000000"/>
                </a:solidFill>
                <a:latin typeface="Calibri"/>
              </a:rPr>
              <a:t>је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пренос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ћелијску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мембрану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онтролисан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сад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непознатим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механизмим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активан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специјалн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анал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oxyporini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Растворљивос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лазм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хипербаричним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усл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1484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словим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иперокс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Б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лазм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личин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ј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ос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об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астворен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тању - поста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начаја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езервоа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штед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ста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еза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емоглоб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Rastvorljivost kiseonika u plazmi u hiperbaričnim uslovima"/>
          <p:cNvPicPr/>
          <p:nvPr/>
        </p:nvPicPr>
        <p:blipFill>
          <a:blip r:embed="rId1"/>
          <a:stretch/>
        </p:blipFill>
        <p:spPr>
          <a:xfrm>
            <a:off x="755640" y="2781360"/>
            <a:ext cx="7561440" cy="25160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826920" y="5516640"/>
            <a:ext cx="74901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зна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феномен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сиће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емоглоб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енско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кив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етенци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личин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ј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ормал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анспорту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емоглоб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рбаминохемоглоб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Транспорт кисеоник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хипербаричним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усл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484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Б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могућа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лазм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ста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начаја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езервоа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ан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радијен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тиса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ифузио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истанц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х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уж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кстрем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уг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кспозиц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кспозиц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кстрем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исоки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вед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иректн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јпр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ам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јвећ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иво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лве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лагањ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ипероксични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словим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граниче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прав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оксичн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фек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лућ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ач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едвиде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узда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евенир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вис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личи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астворен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ла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везан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хемоглобин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је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складишт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транспорту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учествуј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парцијалном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притиску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јер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слободан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молекул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т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Оксихемоглобин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садржи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јест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укупни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физолошки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"/>
              </a:rPr>
              <a:t>кори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хематски приказ транспорта кисеоник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кроз телесне т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Shematski prikaz transporta kiseonika kroz telesne tečnosti"/>
          <p:cNvPicPr/>
          <p:nvPr/>
        </p:nvPicPr>
        <p:blipFill>
          <a:blip r:embed="rId1"/>
          <a:stretch/>
        </p:blipFill>
        <p:spPr>
          <a:xfrm>
            <a:off x="539640" y="1197000"/>
            <a:ext cx="7848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31417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Impact"/>
              </a:rPr>
              <a:t>Физиолошки основи примене ХБО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Основни постул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484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олуме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асн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ехурић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тиск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3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ар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њ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1/6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олуме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рш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а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лиминаци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нертн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асо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ан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радијен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тиса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тварањ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чк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зор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мањењ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вн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то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кив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ипокс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асоконстрикц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вн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уд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бно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ћелијск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функци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вис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леукоци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фиброци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стеоци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ур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БО дифузно повећава количину кисеоника у ткивима на рачун физички раствореног кисеоника у крвној плазми - ублажава или потпуно отклања хипоксију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хемоглобин је сатуриран 100 % и носи око 20 вол.% кисеоника хемијски везаног и око 2 вол.% раствореног у плаз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Основни постул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484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БО има директно бактериостатско и бактерицидно деловање на анаеробне микроорганизме - повећано стварање слободних радикала (повећана фагоцитна способност леукоци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БО има директни антиедематозни учинак - изазива васоконстрикцију крвних судова (сем у плућима и хипоксичном ткиву где изазива васодилатациј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јства ХБО на циркулаторни систе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мањује вискозност пла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мањује агрегабилност тромбоц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брзава неокапиларизациј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овећава еластичност опне еритроц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.    ХБО убрзава стварање новог коштаног ткива - омогућава појаву капиларне пролиферације и реституише нормалне капацитете синтезе и пролиферације остеобл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Calibri"/>
              </a:rPr>
              <a:t>Хипербарична медицина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Calibri"/>
              </a:rPr>
              <a:t>*основне одлике*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Хипербарична медицина (ХМ) је клиничка дисциплина у којој је основни терапијски супстрат 100% кисеоник (О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е удише у условима повишеног притиска изнад 1 бара (101 kPа; 760 mmHg; апсолутна атмосвера АТА) - хипербаричном оксигенација (ХБ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ХБО се спроводи у специјалним уређајима, хипербаричним или рекомпресионим комора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оморе могу бити једномесне и вишемес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Основни постул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77300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БО опоравља продукцију колагена и омогућава стварање потпоре новом ткиву - убрзава регенерацију кожног и поткожног ткива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растање ра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већање растојања перикапиларне дифузије кисео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. ХБО олакшава синаптичку трансмисију - побољшава когнитивне функци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. ХБО омогућава ефикасније одвијање метаболичких процеса у ћел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3. ХБО испољава имуносупресивно деј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4. Ефекти ХБО на канцерогенез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Физиолошки механизми одбране од хиперокс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8920" y="1773000"/>
            <a:ext cx="87138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оком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кстрем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иперокс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азва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иолошк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ред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ирект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азивајућ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утооксидациј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елико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ро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теи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њихов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нактив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ндирект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екурсо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нажн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ксидана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азивај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ероксидациј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иомолек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линичк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нифестац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оксичн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фека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R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ul-Bertov ефекат (токсичне манифестације на CNS, кисеонична епилепсија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Lorain-Smithov ефекат (токсичне манифестације на плућима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Terryev ефекат (ретролентална фиброплазија)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демантовано 200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ронич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оксич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нифестац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ремећаје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функц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АНС-а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уготрајни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пазм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ериферн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вн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уд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лободнорадикалск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Free radical diseases) - Halliwell-Gutteridge 1999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Физиолошки механизми одбране од хиперокс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8920" y="2276640"/>
            <a:ext cx="8713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Физиолошк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еханиз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бра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рганизм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иш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дели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иво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лини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бра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лућ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в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аријер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лвеол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пилар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рв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нтрол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то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в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в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аријер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анзицио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лог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лазм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в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ћелијс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ариј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Ћелијс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нтрол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тилизаци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нтрол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ксидацион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це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итохондриј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нтиоксидатив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шт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Индикације за клиничку примену Х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8920" y="2276640"/>
            <a:ext cx="8713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Тровање угљен монокси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рогресивна бактеријска гангрена и целул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Некротизирајући фасилитис и миоз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пекот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Исхемијска болест ср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ериферне васкуларне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Реуматоидни артр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Тровање угљен моноксидо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*стање током ХБО терапије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8920" y="2276640"/>
            <a:ext cx="8713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280" y="2492280"/>
          <a:ext cx="8569440" cy="2826000"/>
        </p:xfrm>
        <a:graphic>
          <a:graphicData uri="http://schemas.openxmlformats.org/drawingml/2006/table">
            <a:tbl>
              <a:tblPr/>
              <a:tblGrid>
                <a:gridCol w="628920"/>
                <a:gridCol w="6041880"/>
                <a:gridCol w="1409760"/>
                <a:gridCol w="488880"/>
              </a:tblGrid>
              <a:tr h="320760">
                <a:tc>
                  <a:txBody>
                    <a:bodyPr lIns="80280" rIns="80280" tIns="64080" bIns="64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9fb"/>
                    </a:solidFill>
                  </a:tcPr>
                </a:tc>
                <a:tc>
                  <a:txBody>
                    <a:bodyPr lIns="80280" rIns="80280" tIns="64080" bIns="64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ИС КЛИНИЧКИХ ПРОМЕ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9fb"/>
                    </a:solidFill>
                  </a:tcPr>
                </a:tc>
                <a:tc>
                  <a:txBody>
                    <a:bodyPr lIns="80280" rIns="80280" tIns="64080" bIns="64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LASGOW СКА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9fb"/>
                    </a:solidFill>
                  </a:tcPr>
                </a:tc>
                <a:tc>
                  <a:txBody>
                    <a:bodyPr lIns="80280" rIns="80280" tIns="64080" bIns="64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f9fb"/>
                    </a:solidFill>
                  </a:tcPr>
                </a:tc>
              </a:tr>
              <a:tr h="379800"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е ХБО 87%; после ХБО 92%; стање свести: к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2040"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пре ХБО 92%; после ХБО 98%; стање свести: реагује на грубе дражи и гласан гово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360"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ње свест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удио се из коме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уницира гестови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000"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ње свести: говори и х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360"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ње свести: потпуно свестан и орјентис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кинуто ХБО лечење након шестог третм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0280" rIns="80280" tIns="80280" bIns="802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0280" marR="80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Контрандикације за примену Х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8920" y="2276640"/>
            <a:ext cx="8713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Апсолутн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контраиндикац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лече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неумотора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че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цитостатиц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руп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дриам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терапиј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ци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лати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олесни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олел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рцин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* Малиг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ћели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ст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ж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суств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ипербарично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* Приме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Б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же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раиндикова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Контрандикације за примену Х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8920" y="1844640"/>
            <a:ext cx="8713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Релативн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контраиндикаци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фекциј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орњ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лов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спираторно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мфизе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државање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vi-VN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контролиса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ише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елес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емп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нтан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неумоторакс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мне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тход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конструктив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ераци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редње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тход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ераци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рудно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ш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врђе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лућ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зи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диографијам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 нал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рус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фе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лаустрофоб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24000" y="980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ЕКСПЕРИМЕНТАЛНИ А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Како је све почело код нас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11280" y="162864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Јануар 2017.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оф. др Жарко Финдерле (Директор Института за физиологију Медицинског факултета Универзитета у Љубљани и гостујући професор Факултета медицинских наука) донира хипербаричну комору за мале експерименталне животиње лабораторији за кардиоваскуларну физиолог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рва овакве врсте у земљи и реги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://www.medf.kg.ac.rs/images/Zarko_Finderle_2016_2.jpg"/>
          <p:cNvPicPr/>
          <p:nvPr/>
        </p:nvPicPr>
        <p:blipFill>
          <a:blip r:embed="rId1"/>
          <a:stretch/>
        </p:blipFill>
        <p:spPr>
          <a:xfrm>
            <a:off x="1835280" y="3479760"/>
            <a:ext cx="5832360" cy="31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Како је све почело код нас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www.medf.kg.ac.rs/images/Zarko_Finderle_2016_1.jpg"/>
          <p:cNvPicPr/>
          <p:nvPr/>
        </p:nvPicPr>
        <p:blipFill>
          <a:blip r:embed="rId1"/>
          <a:stretch/>
        </p:blipFill>
        <p:spPr>
          <a:xfrm>
            <a:off x="555480" y="2421000"/>
            <a:ext cx="809784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Сродна слика"/>
          <p:cNvPicPr/>
          <p:nvPr/>
        </p:nvPicPr>
        <p:blipFill>
          <a:blip r:embed="rId1"/>
          <a:stretch/>
        </p:blipFill>
        <p:spPr>
          <a:xfrm>
            <a:off x="4716360" y="2565360"/>
            <a:ext cx="4032360" cy="280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Сродна слика"/>
          <p:cNvPicPr/>
          <p:nvPr/>
        </p:nvPicPr>
        <p:blipFill>
          <a:blip r:embed="rId2"/>
          <a:stretch/>
        </p:blipFill>
        <p:spPr>
          <a:xfrm>
            <a:off x="539640" y="1341360"/>
            <a:ext cx="4219560" cy="266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Сродна слика"/>
          <p:cNvPicPr/>
          <p:nvPr/>
        </p:nvPicPr>
        <p:blipFill>
          <a:blip r:embed="rId3"/>
          <a:stretch/>
        </p:blipFill>
        <p:spPr>
          <a:xfrm>
            <a:off x="539640" y="4005360"/>
            <a:ext cx="4248360" cy="2523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5076720" y="5805360"/>
            <a:ext cx="309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Једномесне ко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BO Medical Centar Беогр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ХНИЧКЕ КАРАКТЕРИСТИКЕ КОМОР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YB-C 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Максимални притисак - 5 б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Температура до 40 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Димензије – 910 х 745 х 47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Тежина – 90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Брзина протока кисеоника – 5-25L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Намењена за пуњење са медицинским кисеоником (категорија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Делов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-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- главни вентил за доток кисео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- мембрански вентил за подешавање радног прит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- иглени вентил за фино подеш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- маноме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- индикатор за регулацију протока кисеоника у ком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- сигурносни вент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217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изглед хипербаричне ко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5491080" cy="3097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566712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9242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Impact"/>
              </a:rPr>
              <a:t>Сцијентометрија </a:t>
            </a:r>
            <a:br>
              <a:rPr sz="3600"/>
            </a:b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Резултат слика за scientometrics"/>
          <p:cNvPicPr/>
          <p:nvPr/>
        </p:nvPicPr>
        <p:blipFill>
          <a:blip r:embed="rId1"/>
          <a:srcRect l="0" t="11339" r="0" b="13059"/>
          <a:stretch/>
        </p:blipFill>
        <p:spPr>
          <a:xfrm>
            <a:off x="2843280" y="2924280"/>
            <a:ext cx="33336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Докторске дисерт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8920" y="1844640"/>
            <a:ext cx="8713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1.     Ефек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ипербарич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ксигенац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БО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ксидоредукцио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ату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цијен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олел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iabetes mellitusa tip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др Сандра Тепи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фекти хипербаричне оксигенације на протетичку рехабилитацију болесника са једностраном ампутацијом доњег екстремит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др Игор Симани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ицај прекондиционирања антагонистима L-типа калцијумских канала и никорандилом самостално и у комбинацији са хипербаричном оксигенацијом на функционални опоравак изолованог срца пац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др Нина Симонови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Радови на SCI/CC ли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5254" t="11437" r="29724" b="8829"/>
          <a:stretch/>
        </p:blipFill>
        <p:spPr>
          <a:xfrm>
            <a:off x="395280" y="620640"/>
            <a:ext cx="8461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rcRect l="5725" t="11609" r="29522" b="11609"/>
          <a:stretch/>
        </p:blipFill>
        <p:spPr>
          <a:xfrm>
            <a:off x="324000" y="836640"/>
            <a:ext cx="842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066680" y="200160"/>
            <a:ext cx="7010640" cy="64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324000" y="2781360"/>
            <a:ext cx="46083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20115" t="19488" r="21222" b="12594"/>
          <a:stretch/>
        </p:blipFill>
        <p:spPr>
          <a:xfrm>
            <a:off x="611280" y="765000"/>
            <a:ext cx="8137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Историјат хипербаричне медицин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Calibri"/>
              </a:rPr>
              <a:t>Хипербарична медицина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Calibri"/>
              </a:rPr>
              <a:t>*историјат (до XX века)*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915920"/>
            <a:ext cx="8229600" cy="43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1662-1664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. -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британски физичар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Henshaw 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изградио прву комору од дрвета 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вишен притисак користан за лечење акутних, а снижени за хроничних боле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1775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ristly 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открив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1778. 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Lavoisier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 описује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особине и назива га гасом живота 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xygen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1797.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umas 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експериментално показује токсичне карактеристике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 на плућни паренхим 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четком 19. века у Француској се гради више хипербаричних ком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Calibri"/>
              </a:rPr>
              <a:t>Хипербарична медицина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Calibri"/>
              </a:rPr>
              <a:t>*историјат (oд XX века)*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13336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917.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Haldane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користи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у лечењу плућне конгестије и едема плу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927.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uningham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 конструише огромну ХБО комор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у С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930. - ХБО почиње да се користи у терапији схизофрен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955.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hurchil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Davidson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користе ХБО у комбинацији са радиотерапијом за повећање сензитивности туморских ће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956.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oerem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користи ХБО у кардиохирург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960.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lingworth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са успехом користи ХБО у лечењу тровања угљен монокси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Calibri"/>
              </a:rPr>
              <a:t>Хипербарична медицина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Calibri"/>
              </a:rPr>
              <a:t>*историјат (oд XX века)*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000" y="1773000"/>
            <a:ext cx="835164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963. На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конгресу хипербричне физиологије (Амстердам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Julius H. Jacobson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I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ount Sinai Hospital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чиње своје излагање речениц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"Примена кисеоника под притисцима вишим од атмосферског притиска представља напредак који се по значају може поредити са увођењем трансфузије крви и антибиотика у терапију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JacobsonJulius"/>
          <p:cNvPicPr/>
          <p:nvPr/>
        </p:nvPicPr>
        <p:blipFill>
          <a:blip r:embed="rId1"/>
          <a:srcRect l="0" t="12774" r="0" b="0"/>
          <a:stretch/>
        </p:blipFill>
        <p:spPr>
          <a:xfrm>
            <a:off x="3348000" y="3716280"/>
            <a:ext cx="2381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Calibri"/>
              </a:rPr>
              <a:t>Хипербарична медицина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Impact"/>
                <a:ea typeface="Calibri"/>
              </a:rPr>
              <a:t>*на нашим просторима*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000" y="2133360"/>
            <a:ext cx="835164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969.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формира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Одеље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двод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хипербарич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едици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анитетско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лужб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Рат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орнариц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СФР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пли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974.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- ф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ормира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хипербарич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цента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КБ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Зему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976.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 - ВМ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успостављ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следипломс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школов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морс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двод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хипербарич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едиц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994/5. 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Calibri"/>
              </a:rPr>
              <a:t>п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р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д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иодра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Живковић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кре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формир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нов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цента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хипербарич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едици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Београ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328464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Impact"/>
              </a:rPr>
              <a:t>Физиологија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Impact"/>
              </a:rPr>
              <a:t>транспорта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Impact"/>
              </a:rPr>
              <a:t>кисеоника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Impact"/>
              </a:rPr>
              <a:t>у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Impact"/>
              </a:rPr>
              <a:t>условима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Impact"/>
              </a:rPr>
              <a:t>хипербаричне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Impact"/>
              </a:rPr>
              <a:t>хипероксиј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8:06:34Z</dcterms:created>
  <dc:creator>Prodekani 2</dc:creator>
  <dc:description/>
  <dc:language>en-US</dc:language>
  <cp:lastModifiedBy>Vladimir Zivkovic</cp:lastModifiedBy>
  <dcterms:modified xsi:type="dcterms:W3CDTF">2020-06-11T20:28:56Z</dcterms:modified>
  <cp:revision>96</cp:revision>
  <dc:subject/>
  <dc:title>Физиологија срца</dc:title>
</cp:coreProperties>
</file>